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45.jpeg" ContentType="image/jpeg"/>
  <Override PartName="/ppt/media/image32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4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6.jpeg" ContentType="image/jpeg"/>
  <Override PartName="/ppt/media/image3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868-057B-4BEA-BAB3-F623F09E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A0B-8CB2-4901-87D3-6E0820FA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253FA-7E1F-4418-BA57-C7174CAD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778FF-F0EE-4E80-B225-E1084B3F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1D657-1788-4BC3-9F2F-AEE519DD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6B34A-E53D-40EA-8489-FEB2E393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1C866-9AC8-4CD2-B439-9533C942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C746E-5631-45A4-AA5D-1892495D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40B97-DA3A-432B-8D4C-29405AE5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04564-0E79-4681-AE2C-EDE14B25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B0443-B11D-4930-8F13-A5E9CD2D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3E7F0-AFD8-409E-80C0-0E66BB18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096-D1F6-4AB1-8304-88D6CE8A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23709-D1A0-49B4-B311-78A3EFC9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99402-83CC-4F73-B606-27323C68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5E4DC-16A3-4AB6-B918-77AA2CD1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B5059-0249-4AED-B630-9D359A2B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4D4D8-DAF6-47C9-9E7E-D67EF438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D4FA6-DEE2-4E65-AA9A-88D2161D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40768-F7C0-48FD-943D-3C06743A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1642C-0867-4FDB-B216-A0DB19FC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020E0-533E-451D-97C4-ED9C8C5B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5EF96-B325-4E9A-8C77-9D045C63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886-0BF1-4AA9-ADAE-01C23EE6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AF361-D6BC-40AF-A3FC-5D872347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A421E-E6B1-4884-9F9B-DEAB24B9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8B0DF-AA81-4690-A3B2-0BCCDBFE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1161E-7E84-417C-9C11-C890E443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B6449-6353-45F5-9D6E-FB070379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0FB6A-266A-49E9-90A6-12B2E9A7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1902C-A36C-4863-B36A-C9C1515C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7DA65-1A97-4E43-A5AC-7D10DD3F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3568D-4D94-493F-ABC3-D86D5CD3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3D6A7-46A9-47EF-A526-93726D8C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19C8-F53A-42CD-837F-D5B03B66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6C1D1-98E8-4B6F-8BE8-78F7EDC3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4ADF4-7CB0-4332-B45F-1ACA6A12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B50CD-401C-4455-8499-5546D853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7E8A0-7E01-437B-86C7-5258AE3F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418B6-6D5C-4AD7-973D-126862C5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C4485-65FE-44D9-A11C-DC0D7249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58AAD-F152-417C-A1C1-B90BADC4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0F33E-C38B-4952-8568-14548A60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9100A-8AE4-44D4-BDB6-F3803AF5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7F918-499C-4F43-9B94-BB48168D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9E06-76E8-497F-AD17-7379DCCC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72185-46DA-42A2-AFED-7040B045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E2132-F31B-440A-B4D5-E628834B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6A71C-D777-45B5-9987-5F0E7CB3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2F122-2237-4C4A-BB51-E5EEBA8E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67738-2753-4C63-AB1C-EF6D98E2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42E6-E18A-45CD-8325-5C196B46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757A-4635-4197-819B-1FE1CC2A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865A-9084-4FA1-A8EB-A3CC073E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272B-9C0B-4781-A1CF-2DBF6F6A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86D7-ED79-4259-9EA2-D705EB5A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CB9-4A6D-4A40-B4B1-D1B52AB6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8DE3-4D88-4478-91AE-19B47EEE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F6F4-76CF-4477-BCB5-76765EE3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9284-E3A3-4196-8C3F-93D86D00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F2A9-7CCC-46E2-A3B8-F9ED38F3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A76D-ADBA-45A4-AEF9-695BFF2B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8930-9299-4D6B-BA21-7A3B2A88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0C03E-12ED-4641-A15F-E9B2FC00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3CB1-8CCE-4587-99B5-140AE9E4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D4EA5-959D-43C8-A775-2850402F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4AEF7-88F1-4609-9F92-245ED28D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77C-35C7-4E38-A16A-4FB9FE3B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EC4B-607B-4022-8C84-13C03414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09B50-F60D-454E-8EC7-BD02EC72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1237-0BB1-4165-975A-02463F61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5D4DF-36CD-4C9A-B35F-2DDC955A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AE3B-0105-4358-8AEC-6860C10A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850DD-9A1E-4E74-AEFD-E8D04995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E312D-0ECE-4BBA-A237-69A5271F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5B9EE-94B4-4955-BF79-6EC607B3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C1ED4-5F67-4587-8FAC-B50C17F8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1A7FE-F23F-490B-9DFD-D722A889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22F-FE55-4206-8AFF-6EC27656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0342F-E15E-4035-8BCA-BBFB5B6C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181E7-7F97-4688-A88F-EC3F8C7F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7C521-382F-49C3-958C-757B0832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18FC6-0916-4956-B197-8DE7697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0E00F-4EE8-4001-A215-668390A5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B9BE-75F7-4D08-A7A8-535483A7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3AF42-4BC0-4ADE-B584-D99ACF53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E1C34-8ECE-47C2-90A1-D90AD148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5B321-8D19-4873-A4A5-1969E39D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FCD13-DD4C-4A67-B28E-56644B4E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F32-7C25-4A3F-9AE4-3A33DE86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A8A16-1D71-47E4-B0C1-CC93D3E3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C029A-0EE8-463F-8E0A-4924DE40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D3FB8-EBF9-4219-9896-DEB6DC63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6BEC6-6A43-428C-9335-3707A628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5EBEF-6150-4904-94A0-0A5C411F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4B247-E068-48BC-BF06-E9542AAA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1527F-E4B9-4192-BB86-1C54DD85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83A36-E655-4A5E-BC57-2C928A8B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BEDA8-6F74-43BD-B791-98919F6E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71C10-2AC0-4C74-9FA5-79314454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E1A-5D31-47D2-ACC4-7A70A383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5D574-055F-4B0B-B4CD-2FDA172B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E2122-CFA5-4137-BA50-8DA236DA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15E2E-9AA9-4574-8B58-D77519DF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18382-ADCA-4480-9A8F-7EF4A53B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B731F-AAF9-4339-B005-D317D666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2E28E-2AF2-45B4-8348-A614B374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C7BC9-0BD0-4312-AAF0-2F610052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D7BF5-81FA-4802-9048-E0D03DE1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27086-568C-448A-9A7A-F7245C98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06A24-154B-4584-967E-17BA6521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534-C3DC-48FE-B9E5-E1F75193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C5E12-A34C-4C16-AA70-A1DF888B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C4220-5C89-4C77-9608-2C2B4D83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B6671-3E59-4A1C-ACC0-DAA0B401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D3ECC-B912-4340-BCF6-F75EDE27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298C1-5CE4-4A2B-B0FD-80A0D023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5CFF9-AAE4-4CDF-B1AF-C47374AB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08994-F92D-4199-B18B-B3D0DEFF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6B26C-F95B-408F-80C6-5D3CC5FE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A93F1-DAF7-42D4-9A06-D83BD862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6E1AE-2E67-4044-B1A8-9154A4F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0D6-10B1-4700-936C-3CF2DF5A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98CE5-259B-4754-A275-900C73A1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86721-C965-434A-BF8D-7D9672D9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2DFE6-551D-42A7-B564-DBC4B371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7368C-EC7F-4C9E-B4AF-A8758C47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540BE-80F8-42E9-A176-9FFCE64D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889B0-9510-4C76-9C04-329F1D01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ED166-9ED1-4FEF-98E7-09DD834F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BD586-3AD1-455F-9084-929A704F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F0673-4DC6-4DFD-BB52-81132AC0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9B8F6-20D0-45E9-89A6-0DA045AD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6EC-8A13-4239-9607-D136569A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ACAB9-8C55-46E6-8DD4-9C793B0C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363F1-628E-407B-AE1F-3B40A951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9B551-A0D4-4C06-A980-6DE3E6EF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1DA02-3049-41FC-8F7A-B3CF20B4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07BC1-6C78-441F-BC3F-4D967CC7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EFD33-27FC-41F3-A76F-7900B219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49F58-39A9-4F90-A2ED-8BF242EF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DE1BE-4EB9-472E-A4A7-99F737B0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33197-53BC-4130-B8E3-4620963B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157DF-4842-4B71-A7DF-8403014F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BD78-6C4C-4B1A-A4FC-4951F67F21C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D65E-88FA-4A3C-B126-9FEEC29D823B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4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D37E-6F7F-44A3-B0C0-E68DEE043B9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8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FAAA-28A4-47AB-8C74-7099AE1D03D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F99B-34F5-46DC-B8D2-3D8B1C38040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58BD-10B3-44A6-94FF-916FF1227DE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1883-E74B-4327-95D9-F917C0C248A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8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EA97-8DC8-494D-ABA6-CAA0729FF97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2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6CAF-1600-4E03-AE53-3C6B94A7CD5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6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98E3-31BD-4C72-9C57-723924BEDDD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1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2D29-4D58-42E5-AC47-96D24219D83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F35B-C727-4306-8E73-BF107CF89AF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Chemical Basis of Li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04920" y="685440"/>
            <a:ext cx="853416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lnSpc>
                <a:spcPct val="90000"/>
              </a:lnSpc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An atom is made up of protons and neutrons 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lnSpc>
                <a:spcPct val="90000"/>
              </a:lnSpc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cated in a central nucle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lnSpc>
                <a:spcPct val="90000"/>
              </a:lnSpc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The nucleus is surrounded by electrons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lnSpc>
                <a:spcPct val="90000"/>
              </a:lnSpc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ranged in electron she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90072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02"/>
          <p:cNvGrpSpPr/>
          <p:nvPr/>
        </p:nvGrpSpPr>
        <p:grpSpPr>
          <a:xfrm>
            <a:off x="2487600" y="3306600"/>
            <a:ext cx="4167000" cy="3086280"/>
            <a:chOff x="2487600" y="3306600"/>
            <a:chExt cx="4167000" cy="3086280"/>
          </a:xfrm>
        </p:grpSpPr>
        <p:pic>
          <p:nvPicPr>
            <p:cNvPr id="570" name="Picture 78" descr="_x0017_02_04aHeliumAtom_UP.jpg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2487600" y="3449520"/>
              <a:ext cx="142560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79"/>
            <p:cNvSpPr/>
            <p:nvPr/>
          </p:nvSpPr>
          <p:spPr>
            <a:xfrm>
              <a:off x="3035880" y="396072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80"/>
            <p:cNvSpPr/>
            <p:nvPr/>
          </p:nvSpPr>
          <p:spPr>
            <a:xfrm>
              <a:off x="3046680" y="420516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81"/>
            <p:cNvSpPr/>
            <p:nvPr/>
          </p:nvSpPr>
          <p:spPr>
            <a:xfrm>
              <a:off x="2929320" y="34383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82"/>
            <p:cNvSpPr/>
            <p:nvPr/>
          </p:nvSpPr>
          <p:spPr>
            <a:xfrm>
              <a:off x="3173760" y="34383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83"/>
            <p:cNvSpPr/>
            <p:nvPr/>
          </p:nvSpPr>
          <p:spPr>
            <a:xfrm>
              <a:off x="2737440" y="540072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84"/>
            <p:cNvSpPr/>
            <p:nvPr/>
          </p:nvSpPr>
          <p:spPr>
            <a:xfrm>
              <a:off x="2742120" y="60753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85"/>
            <p:cNvSpPr/>
            <p:nvPr/>
          </p:nvSpPr>
          <p:spPr>
            <a:xfrm>
              <a:off x="2545200" y="54039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86"/>
            <p:cNvSpPr/>
            <p:nvPr/>
          </p:nvSpPr>
          <p:spPr>
            <a:xfrm>
              <a:off x="2541960" y="575784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7"/>
            <p:cNvSpPr/>
            <p:nvPr/>
          </p:nvSpPr>
          <p:spPr>
            <a:xfrm>
              <a:off x="2561040" y="609912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88"/>
            <p:cNvSpPr/>
            <p:nvPr/>
          </p:nvSpPr>
          <p:spPr>
            <a:xfrm>
              <a:off x="2906640" y="54021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t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89"/>
            <p:cNvSpPr/>
            <p:nvPr/>
          </p:nvSpPr>
          <p:spPr>
            <a:xfrm>
              <a:off x="2927880" y="5749920"/>
              <a:ext cx="848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utr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90"/>
            <p:cNvSpPr/>
            <p:nvPr/>
          </p:nvSpPr>
          <p:spPr>
            <a:xfrm>
              <a:off x="2895840" y="6084720"/>
              <a:ext cx="866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lectr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91"/>
            <p:cNvSpPr/>
            <p:nvPr/>
          </p:nvSpPr>
          <p:spPr>
            <a:xfrm>
              <a:off x="3716280" y="5460840"/>
              <a:ext cx="111240" cy="493920"/>
            </a:xfrm>
            <a:custGeom>
              <a:avLst/>
              <a:gdLst>
                <a:gd name="textAreaLeft" fmla="*/ 0 w 111240"/>
                <a:gd name="textAreaRight" fmla="*/ 39960 w 111240"/>
                <a:gd name="textAreaTop" fmla="*/ 12600 h 493920"/>
                <a:gd name="textAreaBottom" fmla="*/ 481320 h 49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92"/>
            <p:cNvSpPr/>
            <p:nvPr/>
          </p:nvSpPr>
          <p:spPr>
            <a:xfrm>
              <a:off x="3806640" y="5487840"/>
              <a:ext cx="1017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ss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mber = 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5" name="Picture 93" descr="_x0017_02_04bCarbonAtom_UP.jpg                                        0050AB05_x0003_203                            BE79A7C4:"/>
            <p:cNvPicPr/>
            <p:nvPr/>
          </p:nvPicPr>
          <p:blipFill>
            <a:blip r:embed="rId2"/>
            <a:srcRect l="0" t="11037" r="65850" b="37978"/>
            <a:stretch/>
          </p:blipFill>
          <p:spPr>
            <a:xfrm>
              <a:off x="4286160" y="3306600"/>
              <a:ext cx="16970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 Box 94"/>
            <p:cNvSpPr/>
            <p:nvPr/>
          </p:nvSpPr>
          <p:spPr>
            <a:xfrm>
              <a:off x="4942440" y="387972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95"/>
            <p:cNvSpPr/>
            <p:nvPr/>
          </p:nvSpPr>
          <p:spPr>
            <a:xfrm>
              <a:off x="4942440" y="411156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96"/>
            <p:cNvSpPr/>
            <p:nvPr/>
          </p:nvSpPr>
          <p:spPr>
            <a:xfrm>
              <a:off x="4882680" y="3664080"/>
              <a:ext cx="416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13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 flipV="1">
              <a:off x="5508720" y="3568680"/>
              <a:ext cx="414360" cy="6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98"/>
            <p:cNvSpPr/>
            <p:nvPr/>
          </p:nvSpPr>
          <p:spPr>
            <a:xfrm>
              <a:off x="5288040" y="4363920"/>
              <a:ext cx="501480" cy="5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99"/>
            <p:cNvSpPr/>
            <p:nvPr/>
          </p:nvSpPr>
          <p:spPr>
            <a:xfrm rot="13630200">
              <a:off x="5238360" y="4121280"/>
              <a:ext cx="54000" cy="441360"/>
            </a:xfrm>
            <a:custGeom>
              <a:avLst/>
              <a:gdLst>
                <a:gd name="textAreaLeft" fmla="*/ 34560 w 54000"/>
                <a:gd name="textAreaRight" fmla="*/ 54360 w 54000"/>
                <a:gd name="textAreaTop" fmla="*/ 11520 h 441360"/>
                <a:gd name="textAreaBottom" fmla="*/ 429840 h 44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00"/>
            <p:cNvSpPr/>
            <p:nvPr/>
          </p:nvSpPr>
          <p:spPr>
            <a:xfrm>
              <a:off x="5870520" y="3427560"/>
              <a:ext cx="784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u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01"/>
            <p:cNvSpPr/>
            <p:nvPr/>
          </p:nvSpPr>
          <p:spPr>
            <a:xfrm>
              <a:off x="5652720" y="4848120"/>
              <a:ext cx="775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fferences in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Atoms of each element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istinguished by a specific number of prot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lagCount" hidden="1"/>
          <p:cNvSpPr/>
          <p:nvPr/>
        </p:nvSpPr>
        <p:spPr>
          <a:xfrm>
            <a:off x="7966080" y="2414520"/>
            <a:ext cx="277920" cy="231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4"/>
          <p:cNvSpPr/>
          <p:nvPr/>
        </p:nvSpPr>
        <p:spPr>
          <a:xfrm>
            <a:off x="265320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4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57"/>
          <p:cNvGrpSpPr/>
          <p:nvPr/>
        </p:nvGrpSpPr>
        <p:grpSpPr>
          <a:xfrm>
            <a:off x="4281120" y="3050640"/>
            <a:ext cx="3425760" cy="3339000"/>
            <a:chOff x="4281120" y="3050640"/>
            <a:chExt cx="3425760" cy="3339000"/>
          </a:xfrm>
        </p:grpSpPr>
        <p:pic>
          <p:nvPicPr>
            <p:cNvPr id="599" name="Picture 38" descr="_x0017_02_04bCarbonAtom_UP.jpg                                        0050AB05_x0003_203                            BE5F4864:"/>
            <p:cNvPicPr/>
            <p:nvPr/>
          </p:nvPicPr>
          <p:blipFill>
            <a:blip r:embed="rId1"/>
            <a:srcRect l="35952" t="0" r="0" b="0"/>
            <a:stretch/>
          </p:blipFill>
          <p:spPr>
            <a:xfrm>
              <a:off x="4349880" y="3114720"/>
              <a:ext cx="3143160" cy="32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AutoShape 39"/>
            <p:cNvSpPr/>
            <p:nvPr/>
          </p:nvSpPr>
          <p:spPr>
            <a:xfrm rot="8294400">
              <a:off x="5913000" y="4336200"/>
              <a:ext cx="122400" cy="327240"/>
            </a:xfrm>
            <a:custGeom>
              <a:avLst/>
              <a:gdLst>
                <a:gd name="textAreaLeft" fmla="*/ 0 w 122400"/>
                <a:gd name="textAreaRight" fmla="*/ 44280 w 122400"/>
                <a:gd name="textAreaTop" fmla="*/ 11520 h 327240"/>
                <a:gd name="textAreaBottom" fmla="*/ 315720 h 32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16"/>
                    <a:pt x="10800" y="2432"/>
                  </a:cubicBezTo>
                  <a:lnTo>
                    <a:pt x="10800" y="8368"/>
                  </a:lnTo>
                  <a:cubicBezTo>
                    <a:pt x="10800" y="9584"/>
                    <a:pt x="16200" y="10800"/>
                    <a:pt x="21600" y="10800"/>
                  </a:cubicBezTo>
                  <a:cubicBezTo>
                    <a:pt x="16200" y="10800"/>
                    <a:pt x="10800" y="12016"/>
                    <a:pt x="10800" y="13232"/>
                  </a:cubicBezTo>
                  <a:lnTo>
                    <a:pt x="10800" y="19168"/>
                  </a:lnTo>
                  <a:cubicBezTo>
                    <a:pt x="10800" y="20384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0"/>
            <p:cNvSpPr/>
            <p:nvPr/>
          </p:nvSpPr>
          <p:spPr>
            <a:xfrm flipH="1">
              <a:off x="4986000" y="4514760"/>
              <a:ext cx="979560" cy="45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41"/>
            <p:cNvSpPr/>
            <p:nvPr/>
          </p:nvSpPr>
          <p:spPr>
            <a:xfrm>
              <a:off x="5537520" y="540072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42"/>
            <p:cNvSpPr/>
            <p:nvPr/>
          </p:nvSpPr>
          <p:spPr>
            <a:xfrm>
              <a:off x="5532840" y="605808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43"/>
            <p:cNvSpPr/>
            <p:nvPr/>
          </p:nvSpPr>
          <p:spPr>
            <a:xfrm>
              <a:off x="5316840" y="539892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44"/>
            <p:cNvSpPr/>
            <p:nvPr/>
          </p:nvSpPr>
          <p:spPr>
            <a:xfrm>
              <a:off x="5313600" y="572760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5"/>
            <p:cNvSpPr/>
            <p:nvPr/>
          </p:nvSpPr>
          <p:spPr>
            <a:xfrm>
              <a:off x="5312160" y="606888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46"/>
            <p:cNvSpPr/>
            <p:nvPr/>
          </p:nvSpPr>
          <p:spPr>
            <a:xfrm>
              <a:off x="5699160" y="541188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t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47"/>
            <p:cNvSpPr/>
            <p:nvPr/>
          </p:nvSpPr>
          <p:spPr>
            <a:xfrm>
              <a:off x="5700960" y="5738760"/>
              <a:ext cx="848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utr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48"/>
            <p:cNvSpPr/>
            <p:nvPr/>
          </p:nvSpPr>
          <p:spPr>
            <a:xfrm>
              <a:off x="5700600" y="6076800"/>
              <a:ext cx="866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lectr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49"/>
            <p:cNvSpPr/>
            <p:nvPr/>
          </p:nvSpPr>
          <p:spPr>
            <a:xfrm>
              <a:off x="6515280" y="5456160"/>
              <a:ext cx="90360" cy="465120"/>
            </a:xfrm>
            <a:custGeom>
              <a:avLst/>
              <a:gdLst>
                <a:gd name="textAreaLeft" fmla="*/ 0 w 90360"/>
                <a:gd name="textAreaRight" fmla="*/ 32760 w 90360"/>
                <a:gd name="textAreaTop" fmla="*/ 11880 h 465120"/>
                <a:gd name="textAreaBottom" fmla="*/ 453240 h 46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50"/>
            <p:cNvSpPr/>
            <p:nvPr/>
          </p:nvSpPr>
          <p:spPr>
            <a:xfrm>
              <a:off x="6598080" y="5522760"/>
              <a:ext cx="1108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ss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mber = 1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51"/>
            <p:cNvSpPr/>
            <p:nvPr/>
          </p:nvSpPr>
          <p:spPr>
            <a:xfrm>
              <a:off x="6159960" y="414828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52"/>
            <p:cNvSpPr/>
            <p:nvPr/>
          </p:nvSpPr>
          <p:spPr>
            <a:xfrm>
              <a:off x="6299640" y="4208400"/>
              <a:ext cx="27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3"/>
            <p:cNvSpPr/>
            <p:nvPr/>
          </p:nvSpPr>
          <p:spPr>
            <a:xfrm>
              <a:off x="6101640" y="3501360"/>
              <a:ext cx="416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e</a:t>
              </a:r>
              <a:r>
                <a:rPr b="0" lang="en-US" sz="13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54"/>
            <p:cNvSpPr/>
            <p:nvPr/>
          </p:nvSpPr>
          <p:spPr>
            <a:xfrm>
              <a:off x="4281120" y="4809240"/>
              <a:ext cx="775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55"/>
            <p:cNvSpPr/>
            <p:nvPr/>
          </p:nvSpPr>
          <p:spPr>
            <a:xfrm>
              <a:off x="4348080" y="3050640"/>
              <a:ext cx="784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u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56"/>
            <p:cNvSpPr/>
            <p:nvPr/>
          </p:nvSpPr>
          <p:spPr>
            <a:xfrm>
              <a:off x="4964040" y="3330720"/>
              <a:ext cx="698400" cy="44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5" descr="_x0019_02_04CarbonIsotopes_T.jpg 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662040" y="3251160"/>
            <a:ext cx="7819920" cy="3105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304920" y="685440"/>
            <a:ext cx="853416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The number of neutrons in an atom may vary 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riant forms of an element are called isotop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 isotopes are radioac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2652840" y="611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 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5 Radioactive isotopes can help or harm 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Radioactive isotopes are useful as tracers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onitoring the fate of atoms in living organis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asic Resea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Biologists often use radioactive tracers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ollow molecules as they undergo chemical changes in an 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Radioactive tracers are often used for diagnosis 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combination with sophisticated imaging instr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7"/>
          <p:cNvGrpSpPr/>
          <p:nvPr/>
        </p:nvGrpSpPr>
        <p:grpSpPr>
          <a:xfrm>
            <a:off x="744480" y="2817720"/>
            <a:ext cx="7629120" cy="3438720"/>
            <a:chOff x="744480" y="2817720"/>
            <a:chExt cx="7629120" cy="3438720"/>
          </a:xfrm>
        </p:grpSpPr>
        <p:pic>
          <p:nvPicPr>
            <p:cNvPr id="630" name="Picture 5" descr="_x0017_02_05aPETscanner_UP.jpg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744480" y="2817720"/>
              <a:ext cx="4043160" cy="343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6" descr="_x0017_02_05bPETscanner_UP.jpg                                        0050AB05_x0003_203                            BE5F4864:"/>
            <p:cNvPicPr/>
            <p:nvPr/>
          </p:nvPicPr>
          <p:blipFill>
            <a:blip r:embed="rId2"/>
            <a:stretch/>
          </p:blipFill>
          <p:spPr>
            <a:xfrm>
              <a:off x="4775040" y="2838240"/>
              <a:ext cx="3598560" cy="341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Text Box 8"/>
          <p:cNvSpPr/>
          <p:nvPr/>
        </p:nvSpPr>
        <p:spPr>
          <a:xfrm>
            <a:off x="76104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5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478692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5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Radioactive isotopes have many beneficial uses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t uncontrolled exposure to them can harm living organis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Title 16" descr=""/>
          <p:cNvPicPr/>
          <p:nvPr/>
        </p:nvPicPr>
        <p:blipFill>
          <a:blip r:embed="rId1"/>
          <a:stretch/>
        </p:blipFill>
        <p:spPr>
          <a:xfrm>
            <a:off x="304920" y="195120"/>
            <a:ext cx="7437240" cy="20242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Electrons in an atom are arranged in shells, which may contain different numbers of electrons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63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19"/>
          <p:cNvGrpSpPr/>
          <p:nvPr/>
        </p:nvGrpSpPr>
        <p:grpSpPr>
          <a:xfrm>
            <a:off x="1177920" y="3223440"/>
            <a:ext cx="6474600" cy="3103560"/>
            <a:chOff x="1177920" y="3223440"/>
            <a:chExt cx="6474600" cy="3103560"/>
          </a:xfrm>
        </p:grpSpPr>
        <p:sp>
          <p:nvSpPr>
            <p:cNvPr id="640" name="Rectangle 6"/>
            <p:cNvSpPr/>
            <p:nvPr/>
          </p:nvSpPr>
          <p:spPr>
            <a:xfrm>
              <a:off x="1218240" y="586656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drogen (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Picture 8" descr="_x001b_02_06HydrCarbOxyNitro_U.jpg                                    0050AB05_x0003_203                            BE5F4864:"/>
            <p:cNvPicPr/>
            <p:nvPr/>
          </p:nvPicPr>
          <p:blipFill>
            <a:blip r:embed="rId2"/>
            <a:stretch/>
          </p:blipFill>
          <p:spPr>
            <a:xfrm>
              <a:off x="1177920" y="4152600"/>
              <a:ext cx="636408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Line 10"/>
            <p:cNvSpPr/>
            <p:nvPr/>
          </p:nvSpPr>
          <p:spPr>
            <a:xfrm flipV="1">
              <a:off x="1709640" y="41238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1"/>
            <p:cNvSpPr/>
            <p:nvPr/>
          </p:nvSpPr>
          <p:spPr>
            <a:xfrm>
              <a:off x="1339920" y="387720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2"/>
            <p:cNvSpPr/>
            <p:nvPr/>
          </p:nvSpPr>
          <p:spPr>
            <a:xfrm>
              <a:off x="2697840" y="586800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bon (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3"/>
            <p:cNvSpPr/>
            <p:nvPr/>
          </p:nvSpPr>
          <p:spPr>
            <a:xfrm>
              <a:off x="4375800" y="586512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trogen (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4"/>
            <p:cNvSpPr/>
            <p:nvPr/>
          </p:nvSpPr>
          <p:spPr>
            <a:xfrm>
              <a:off x="6185520" y="586512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xygen (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5"/>
            <p:cNvSpPr/>
            <p:nvPr/>
          </p:nvSpPr>
          <p:spPr>
            <a:xfrm flipV="1">
              <a:off x="3460680" y="3462120"/>
              <a:ext cx="353880" cy="90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6"/>
            <p:cNvSpPr/>
            <p:nvPr/>
          </p:nvSpPr>
          <p:spPr>
            <a:xfrm>
              <a:off x="3686400" y="3223440"/>
              <a:ext cx="335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ermost electron shell (can hold 8 electron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7"/>
            <p:cNvSpPr/>
            <p:nvPr/>
          </p:nvSpPr>
          <p:spPr>
            <a:xfrm flipV="1">
              <a:off x="3548160" y="3834720"/>
              <a:ext cx="369720" cy="83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8"/>
            <p:cNvSpPr/>
            <p:nvPr/>
          </p:nvSpPr>
          <p:spPr>
            <a:xfrm>
              <a:off x="3810600" y="3588480"/>
              <a:ext cx="293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rst electron shell (can hold 2 electron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20"/>
          <p:cNvSpPr/>
          <p:nvPr/>
        </p:nvSpPr>
        <p:spPr>
          <a:xfrm>
            <a:off x="748080" y="612144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304920" y="685800"/>
            <a:ext cx="853416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toms whose shells are not full tend to interact with other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toms and gain, lose, or share electrons 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se interactions form chemical bonds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65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19"/>
          <p:cNvGrpSpPr/>
          <p:nvPr/>
        </p:nvGrpSpPr>
        <p:grpSpPr>
          <a:xfrm>
            <a:off x="492120" y="3242520"/>
            <a:ext cx="6474600" cy="3103560"/>
            <a:chOff x="492120" y="3242520"/>
            <a:chExt cx="6474600" cy="3103560"/>
          </a:xfrm>
        </p:grpSpPr>
        <p:sp>
          <p:nvSpPr>
            <p:cNvPr id="655" name="Rectangle 6"/>
            <p:cNvSpPr/>
            <p:nvPr/>
          </p:nvSpPr>
          <p:spPr>
            <a:xfrm>
              <a:off x="532440" y="588564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drogen (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8" descr="_x001b_02_06HydrCarbOxyNitro_U.jpg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492120" y="4171680"/>
              <a:ext cx="636408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Line 10"/>
            <p:cNvSpPr/>
            <p:nvPr/>
          </p:nvSpPr>
          <p:spPr>
            <a:xfrm flipV="1">
              <a:off x="1023840" y="414288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1"/>
            <p:cNvSpPr/>
            <p:nvPr/>
          </p:nvSpPr>
          <p:spPr>
            <a:xfrm>
              <a:off x="654120" y="38962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2"/>
            <p:cNvSpPr/>
            <p:nvPr/>
          </p:nvSpPr>
          <p:spPr>
            <a:xfrm>
              <a:off x="2012040" y="588708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bon (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3"/>
            <p:cNvSpPr/>
            <p:nvPr/>
          </p:nvSpPr>
          <p:spPr>
            <a:xfrm>
              <a:off x="3690000" y="588420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trogen (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5499720" y="5884200"/>
              <a:ext cx="146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xygen (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ic number = 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5"/>
            <p:cNvSpPr/>
            <p:nvPr/>
          </p:nvSpPr>
          <p:spPr>
            <a:xfrm flipV="1">
              <a:off x="2774880" y="3481200"/>
              <a:ext cx="353880" cy="90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6"/>
            <p:cNvSpPr/>
            <p:nvPr/>
          </p:nvSpPr>
          <p:spPr>
            <a:xfrm>
              <a:off x="3000600" y="3242520"/>
              <a:ext cx="335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ermost electron shell (can hold 8 electron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17"/>
            <p:cNvSpPr/>
            <p:nvPr/>
          </p:nvSpPr>
          <p:spPr>
            <a:xfrm flipV="1">
              <a:off x="2862360" y="3853800"/>
              <a:ext cx="369720" cy="83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8"/>
            <p:cNvSpPr/>
            <p:nvPr/>
          </p:nvSpPr>
          <p:spPr>
            <a:xfrm>
              <a:off x="3124800" y="3607560"/>
              <a:ext cx="293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rst electron shell (can hold 2 electron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Title 21" descr=""/>
          <p:cNvPicPr/>
          <p:nvPr/>
        </p:nvPicPr>
        <p:blipFill>
          <a:blip r:embed="rId1"/>
          <a:stretch/>
        </p:blipFill>
        <p:spPr>
          <a:xfrm>
            <a:off x="225360" y="-152280"/>
            <a:ext cx="7577280" cy="23097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When atoms gain or lose electrons, charged atoms called </a:t>
            </a:r>
            <a:r>
              <a:rPr b="0" i="1" lang="en-US" sz="2600" spc="-1" strike="noStrike" u="sng">
                <a:solidFill>
                  <a:srgbClr val="6c6c6c"/>
                </a:solidFill>
                <a:uFillTx/>
                <a:latin typeface="Times New Roman"/>
              </a:rPr>
              <a:t>ions</a:t>
            </a: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 are created.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n electrical attraction between ions with opposite charges results in an ionic bond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62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26"/>
          <p:cNvGrpSpPr/>
          <p:nvPr/>
        </p:nvGrpSpPr>
        <p:grpSpPr>
          <a:xfrm>
            <a:off x="1271520" y="3653640"/>
            <a:ext cx="7515360" cy="2613240"/>
            <a:chOff x="1271520" y="3653640"/>
            <a:chExt cx="7515360" cy="2613240"/>
          </a:xfrm>
        </p:grpSpPr>
        <p:pic>
          <p:nvPicPr>
            <p:cNvPr id="670" name="Picture 6" descr="_x0019_02_07aIonicBondSalt_U.jpg                                      0050AB05_x0003_203                            BE5F4864:"/>
            <p:cNvPicPr/>
            <p:nvPr/>
          </p:nvPicPr>
          <p:blipFill>
            <a:blip r:embed="rId2"/>
            <a:stretch/>
          </p:blipFill>
          <p:spPr>
            <a:xfrm>
              <a:off x="1271520" y="3664080"/>
              <a:ext cx="751536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Rectangle 7"/>
            <p:cNvSpPr/>
            <p:nvPr/>
          </p:nvSpPr>
          <p:spPr>
            <a:xfrm>
              <a:off x="2942640" y="3725280"/>
              <a:ext cx="82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fer of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8"/>
            <p:cNvSpPr/>
            <p:nvPr/>
          </p:nvSpPr>
          <p:spPr>
            <a:xfrm>
              <a:off x="1665000" y="5396760"/>
              <a:ext cx="92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dium at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"/>
            <p:cNvSpPr/>
            <p:nvPr/>
          </p:nvSpPr>
          <p:spPr>
            <a:xfrm>
              <a:off x="3535200" y="5392080"/>
              <a:ext cx="965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lorine at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0"/>
            <p:cNvSpPr/>
            <p:nvPr/>
          </p:nvSpPr>
          <p:spPr>
            <a:xfrm>
              <a:off x="5875200" y="5508000"/>
              <a:ext cx="810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dium 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1"/>
            <p:cNvSpPr/>
            <p:nvPr/>
          </p:nvSpPr>
          <p:spPr>
            <a:xfrm>
              <a:off x="7422840" y="5481000"/>
              <a:ext cx="852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loride 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12"/>
            <p:cNvSpPr/>
            <p:nvPr/>
          </p:nvSpPr>
          <p:spPr>
            <a:xfrm flipV="1" rot="5400000">
              <a:off x="6933240" y="4609800"/>
              <a:ext cx="282600" cy="2614320"/>
            </a:xfrm>
            <a:custGeom>
              <a:avLst/>
              <a:gdLst>
                <a:gd name="textAreaLeft" fmla="*/ 0 w 282600"/>
                <a:gd name="textAreaRight" fmla="*/ 101880 w 282600"/>
                <a:gd name="textAreaTop" fmla="*/ 68040 h 2614320"/>
                <a:gd name="textAreaBottom" fmla="*/ 2546280 h 261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3"/>
            <p:cNvSpPr/>
            <p:nvPr/>
          </p:nvSpPr>
          <p:spPr>
            <a:xfrm>
              <a:off x="6335280" y="6020640"/>
              <a:ext cx="148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dium chloride (NaC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4"/>
            <p:cNvSpPr/>
            <p:nvPr/>
          </p:nvSpPr>
          <p:spPr>
            <a:xfrm>
              <a:off x="1981440" y="44888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5"/>
            <p:cNvSpPr/>
            <p:nvPr/>
          </p:nvSpPr>
          <p:spPr>
            <a:xfrm>
              <a:off x="3887280" y="4485600"/>
              <a:ext cx="29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6"/>
            <p:cNvSpPr/>
            <p:nvPr/>
          </p:nvSpPr>
          <p:spPr>
            <a:xfrm>
              <a:off x="7701840" y="4494960"/>
              <a:ext cx="29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7"/>
            <p:cNvSpPr/>
            <p:nvPr/>
          </p:nvSpPr>
          <p:spPr>
            <a:xfrm>
              <a:off x="6086520" y="450468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8"/>
            <p:cNvSpPr/>
            <p:nvPr/>
          </p:nvSpPr>
          <p:spPr>
            <a:xfrm>
              <a:off x="6141240" y="3679200"/>
              <a:ext cx="25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7729560" y="36536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0"/>
            <p:cNvSpPr/>
            <p:nvPr/>
          </p:nvSpPr>
          <p:spPr>
            <a:xfrm>
              <a:off x="2027160" y="37663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1"/>
            <p:cNvSpPr/>
            <p:nvPr/>
          </p:nvSpPr>
          <p:spPr>
            <a:xfrm>
              <a:off x="7034040" y="43761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Text Box 23"/>
          <p:cNvSpPr/>
          <p:nvPr/>
        </p:nvSpPr>
        <p:spPr>
          <a:xfrm>
            <a:off x="329040" y="598176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7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04920" y="685800"/>
            <a:ext cx="85341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e’s Chemica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rattlebox moth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duces chemicals important for mating and defen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1" descr="_x001a_02_UN16RattleboxMoth_U.jpg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165240" y="4699080"/>
            <a:ext cx="6269040" cy="17859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_x0018_02_UN17MothDefense_U.jpg                                       0050AB05_x0003_203                            BE5F4864:"/>
          <p:cNvPicPr/>
          <p:nvPr/>
        </p:nvPicPr>
        <p:blipFill>
          <a:blip r:embed="rId2"/>
          <a:stretch/>
        </p:blipFill>
        <p:spPr>
          <a:xfrm>
            <a:off x="4483080" y="2362320"/>
            <a:ext cx="36464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Sodium and chloride ions 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62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nd to form sodium chloride, common table sa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12"/>
          <p:cNvGrpSpPr/>
          <p:nvPr/>
        </p:nvGrpSpPr>
        <p:grpSpPr>
          <a:xfrm>
            <a:off x="2198520" y="2178000"/>
            <a:ext cx="4741920" cy="4006800"/>
            <a:chOff x="2198520" y="2178000"/>
            <a:chExt cx="4741920" cy="4006800"/>
          </a:xfrm>
        </p:grpSpPr>
        <p:pic>
          <p:nvPicPr>
            <p:cNvPr id="690" name="Picture 6" descr="_x0017_02_07bSaltCrystal_U.jpg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2198520" y="2178000"/>
              <a:ext cx="3873600" cy="40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Line 7"/>
            <p:cNvSpPr/>
            <p:nvPr/>
          </p:nvSpPr>
          <p:spPr>
            <a:xfrm>
              <a:off x="5765760" y="3683160"/>
              <a:ext cx="72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8"/>
            <p:cNvSpPr/>
            <p:nvPr/>
          </p:nvSpPr>
          <p:spPr>
            <a:xfrm>
              <a:off x="5729400" y="4092480"/>
              <a:ext cx="72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9"/>
            <p:cNvSpPr/>
            <p:nvPr/>
          </p:nvSpPr>
          <p:spPr>
            <a:xfrm>
              <a:off x="6471720" y="3510000"/>
              <a:ext cx="4687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1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0"/>
            <p:cNvSpPr/>
            <p:nvPr/>
          </p:nvSpPr>
          <p:spPr>
            <a:xfrm>
              <a:off x="6454800" y="3919320"/>
              <a:ext cx="40644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en-US" sz="1400" spc="-1" strike="noStrike" baseline="5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11"/>
          <p:cNvSpPr/>
          <p:nvPr/>
        </p:nvSpPr>
        <p:spPr>
          <a:xfrm>
            <a:off x="103392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7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Title 3" descr=""/>
          <p:cNvPicPr/>
          <p:nvPr/>
        </p:nvPicPr>
        <p:blipFill>
          <a:blip r:embed="rId1"/>
          <a:stretch/>
        </p:blipFill>
        <p:spPr>
          <a:xfrm>
            <a:off x="281160" y="189000"/>
            <a:ext cx="7424640" cy="188424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In </a:t>
            </a:r>
            <a:r>
              <a:rPr b="1" i="1" lang="en-US" sz="2600" spc="-1" strike="noStrike" u="sng">
                <a:solidFill>
                  <a:srgbClr val="6c6c6c"/>
                </a:solidFill>
                <a:uFillTx/>
                <a:latin typeface="Times New Roman"/>
              </a:rPr>
              <a:t>covalent bonds</a:t>
            </a: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wo atoms share one or more pairs of outer shell electrons, forming molecu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Molecules can be represented in many ways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70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_x001a_02_08MoleculePresent_T.jpg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2608200" y="1231920"/>
            <a:ext cx="3925800" cy="528156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6"/>
          <p:cNvSpPr/>
          <p:nvPr/>
        </p:nvSpPr>
        <p:spPr>
          <a:xfrm>
            <a:off x="1357560" y="611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 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Title 3" descr=""/>
          <p:cNvPicPr/>
          <p:nvPr/>
        </p:nvPicPr>
        <p:blipFill>
          <a:blip r:embed="rId1"/>
          <a:stretch/>
        </p:blipFill>
        <p:spPr>
          <a:xfrm>
            <a:off x="281160" y="60480"/>
            <a:ext cx="7424640" cy="140796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 molecule is </a:t>
            </a:r>
            <a:r>
              <a:rPr b="1" i="1" lang="en-US" sz="2300" spc="-1" strike="noStrike" u="sng">
                <a:solidFill>
                  <a:srgbClr val="6c6c6c"/>
                </a:solidFill>
                <a:uFillTx/>
                <a:latin typeface="Times New Roman"/>
              </a:rPr>
              <a:t>nonpolar,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its covalently bonded atoms share electro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qu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928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n </a:t>
            </a:r>
            <a:r>
              <a:rPr b="1" i="1" lang="en-US" sz="2300" spc="-1" strike="noStrike" u="sng">
                <a:solidFill>
                  <a:srgbClr val="6c6c6c"/>
                </a:solidFill>
                <a:uFillTx/>
                <a:latin typeface="Times New Roman"/>
              </a:rPr>
              <a:t>a polar covalent bond,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096920" indent="-53352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s are shar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equ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atoms, creating a polar molec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4"/>
          <p:cNvGrpSpPr/>
          <p:nvPr/>
        </p:nvGrpSpPr>
        <p:grpSpPr>
          <a:xfrm>
            <a:off x="1793880" y="2570040"/>
            <a:ext cx="6451560" cy="3823200"/>
            <a:chOff x="1793880" y="2570040"/>
            <a:chExt cx="6451560" cy="3823200"/>
          </a:xfrm>
        </p:grpSpPr>
        <p:pic>
          <p:nvPicPr>
            <p:cNvPr id="709" name="Picture 6" descr="_x0018_02_09WaterMolecule_U.jpg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1793880" y="2570040"/>
              <a:ext cx="490212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Rectangle 7"/>
            <p:cNvSpPr/>
            <p:nvPr/>
          </p:nvSpPr>
          <p:spPr>
            <a:xfrm>
              <a:off x="4249440" y="263160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–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6611760" y="270000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–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3003120" y="6055920"/>
              <a:ext cx="43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7811640" y="6014520"/>
              <a:ext cx="43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5528520" y="38444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6762600" y="5125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4167000" y="508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Text Box 15"/>
          <p:cNvSpPr/>
          <p:nvPr/>
        </p:nvSpPr>
        <p:spPr>
          <a:xfrm>
            <a:off x="1813320" y="611964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0"/>
          <p:cNvGrpSpPr/>
          <p:nvPr/>
        </p:nvGrpSpPr>
        <p:grpSpPr>
          <a:xfrm>
            <a:off x="3948120" y="2409840"/>
            <a:ext cx="4149720" cy="4448160"/>
            <a:chOff x="3948120" y="2409840"/>
            <a:chExt cx="4149720" cy="4448160"/>
          </a:xfrm>
        </p:grpSpPr>
        <p:pic>
          <p:nvPicPr>
            <p:cNvPr id="719" name="Picture 6" descr="_x0017_02_10HydrogenBond_U.jpg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3948120" y="2409840"/>
              <a:ext cx="4149720" cy="44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7"/>
            <p:cNvSpPr/>
            <p:nvPr/>
          </p:nvSpPr>
          <p:spPr>
            <a:xfrm>
              <a:off x="4487760" y="3605040"/>
              <a:ext cx="13777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ts val="18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drogen bo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8"/>
            <p:cNvSpPr/>
            <p:nvPr/>
          </p:nvSpPr>
          <p:spPr>
            <a:xfrm>
              <a:off x="5705640" y="3825720"/>
              <a:ext cx="374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9"/>
            <p:cNvSpPr/>
            <p:nvPr/>
          </p:nvSpPr>
          <p:spPr>
            <a:xfrm>
              <a:off x="6340320" y="4997160"/>
              <a:ext cx="392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10"/>
            <p:cNvSpPr/>
            <p:nvPr/>
          </p:nvSpPr>
          <p:spPr>
            <a:xfrm>
              <a:off x="5758920" y="4144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11"/>
            <p:cNvSpPr/>
            <p:nvPr/>
          </p:nvSpPr>
          <p:spPr>
            <a:xfrm>
              <a:off x="6098400" y="4836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2"/>
            <p:cNvSpPr/>
            <p:nvPr/>
          </p:nvSpPr>
          <p:spPr>
            <a:xfrm>
              <a:off x="4743360" y="4768560"/>
              <a:ext cx="374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13"/>
            <p:cNvSpPr/>
            <p:nvPr/>
          </p:nvSpPr>
          <p:spPr>
            <a:xfrm>
              <a:off x="5354640" y="5437080"/>
              <a:ext cx="374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14"/>
            <p:cNvSpPr/>
            <p:nvPr/>
          </p:nvSpPr>
          <p:spPr>
            <a:xfrm>
              <a:off x="5192280" y="467172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–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5"/>
            <p:cNvSpPr/>
            <p:nvPr/>
          </p:nvSpPr>
          <p:spPr>
            <a:xfrm>
              <a:off x="5711400" y="342720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–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6"/>
            <p:cNvSpPr/>
            <p:nvPr/>
          </p:nvSpPr>
          <p:spPr>
            <a:xfrm>
              <a:off x="6762240" y="524664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–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17"/>
            <p:cNvSpPr/>
            <p:nvPr/>
          </p:nvSpPr>
          <p:spPr>
            <a:xfrm>
              <a:off x="5504760" y="504792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–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18"/>
            <p:cNvSpPr/>
            <p:nvPr/>
          </p:nvSpPr>
          <p:spPr>
            <a:xfrm>
              <a:off x="5732280" y="3687480"/>
              <a:ext cx="58680" cy="176400"/>
            </a:xfrm>
            <a:custGeom>
              <a:avLst/>
              <a:gdLst>
                <a:gd name="textAreaLeft" fmla="*/ 37440 w 58680"/>
                <a:gd name="textAreaRight" fmla="*/ 59040 w 58680"/>
                <a:gd name="textAreaTop" fmla="*/ 4320 h 176400"/>
                <a:gd name="textAreaBottom" fmla="*/ 172080 h 17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>
              <a:off x="5756400" y="45363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Title 3" descr=""/>
          <p:cNvPicPr/>
          <p:nvPr/>
        </p:nvPicPr>
        <p:blipFill>
          <a:blip r:embed="rId2"/>
          <a:stretch/>
        </p:blipFill>
        <p:spPr>
          <a:xfrm>
            <a:off x="281160" y="60480"/>
            <a:ext cx="7424640" cy="185400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 charged regions on water molecules are attracted to the oppositely charged regions on nearby molecules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is attraction forms weak bonds called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758880" indent="-335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drogen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7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_x0018_02_11WaterStrider_UP.jpg  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5267160" y="3240000"/>
            <a:ext cx="3681720" cy="3303720"/>
          </a:xfrm>
          <a:prstGeom prst="rect">
            <a:avLst/>
          </a:prstGeom>
          <a:ln w="0">
            <a:noFill/>
          </a:ln>
        </p:spPr>
      </p:pic>
      <p:pic>
        <p:nvPicPr>
          <p:cNvPr id="737" name="Rectangle 2" descr=""/>
          <p:cNvPicPr/>
          <p:nvPr/>
        </p:nvPicPr>
        <p:blipFill>
          <a:blip r:embed="rId2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11 Hydrogen bonds make liquid water cohes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Due to hydrogen bonding water molecules can move from a plant’s roots to its leaves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nsects can walk on water due to surface tension created by cohesive water molecules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Title 3" descr=""/>
          <p:cNvPicPr/>
          <p:nvPr/>
        </p:nvPicPr>
        <p:blipFill>
          <a:blip r:embed="rId1"/>
          <a:stretch/>
        </p:blipFill>
        <p:spPr>
          <a:xfrm>
            <a:off x="255600" y="85680"/>
            <a:ext cx="7450200" cy="16272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Water’s ability to store heat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s body temperature and cl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t takes a lot of energy to disrupt hydrogen bonds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ater is able to absorb a great deal of heat energy without a large increase in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s water cools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light drop in temperature releases a large amount of 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A water molecule takes energy with it when it evaporates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ading to evaporative cool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5" descr="_x0014_02_12Sweating_UP.jpg      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4432320" y="2195640"/>
            <a:ext cx="2916360" cy="426852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2640240" y="61196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Title 11" descr=""/>
          <p:cNvPicPr/>
          <p:nvPr/>
        </p:nvPicPr>
        <p:blipFill>
          <a:blip r:embed="rId1"/>
          <a:stretch/>
        </p:blipFill>
        <p:spPr>
          <a:xfrm>
            <a:off x="281160" y="231840"/>
            <a:ext cx="7424640" cy="143820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Hydrogen bonds hold molecules in ice farther apart than in liquid water.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74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13"/>
          <p:cNvGrpSpPr/>
          <p:nvPr/>
        </p:nvGrpSpPr>
        <p:grpSpPr>
          <a:xfrm>
            <a:off x="1619280" y="2986200"/>
            <a:ext cx="7045200" cy="3230280"/>
            <a:chOff x="1619280" y="2986200"/>
            <a:chExt cx="7045200" cy="3230280"/>
          </a:xfrm>
        </p:grpSpPr>
        <p:pic>
          <p:nvPicPr>
            <p:cNvPr id="751" name="Picture 6" descr="_x0014_02_13IceLiquid_U.jpg                                           0050AB05_x0003_203                            BE5F4864:"/>
            <p:cNvPicPr/>
            <p:nvPr/>
          </p:nvPicPr>
          <p:blipFill>
            <a:blip r:embed="rId2"/>
            <a:stretch/>
          </p:blipFill>
          <p:spPr>
            <a:xfrm>
              <a:off x="1619280" y="2986200"/>
              <a:ext cx="7045200" cy="32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Rectangle 7"/>
            <p:cNvSpPr/>
            <p:nvPr/>
          </p:nvSpPr>
          <p:spPr>
            <a:xfrm>
              <a:off x="6509520" y="5221440"/>
              <a:ext cx="2126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antly break and re-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8"/>
            <p:cNvSpPr/>
            <p:nvPr/>
          </p:nvSpPr>
          <p:spPr>
            <a:xfrm>
              <a:off x="1757520" y="5251680"/>
              <a:ext cx="201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drogen bonds are st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0"/>
            <p:cNvSpPr/>
            <p:nvPr/>
          </p:nvSpPr>
          <p:spPr>
            <a:xfrm>
              <a:off x="4137840" y="3757680"/>
              <a:ext cx="122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drogen bo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11"/>
            <p:cNvSpPr/>
            <p:nvPr/>
          </p:nvSpPr>
          <p:spPr>
            <a:xfrm>
              <a:off x="3709800" y="3792240"/>
              <a:ext cx="101160" cy="213840"/>
            </a:xfrm>
            <a:custGeom>
              <a:avLst/>
              <a:gdLst>
                <a:gd name="textAreaLeft" fmla="*/ 0 w 101160"/>
                <a:gd name="textAreaRight" fmla="*/ 36360 w 101160"/>
                <a:gd name="textAreaTop" fmla="*/ 5400 h 213840"/>
                <a:gd name="textAreaBottom" fmla="*/ 208440 h 21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2"/>
            <p:cNvSpPr/>
            <p:nvPr/>
          </p:nvSpPr>
          <p:spPr>
            <a:xfrm>
              <a:off x="3828960" y="3895560"/>
              <a:ext cx="29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14"/>
          <p:cNvSpPr/>
          <p:nvPr/>
        </p:nvSpPr>
        <p:spPr>
          <a:xfrm>
            <a:off x="417600" y="311148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The compound produced during mating allows the moths to communicate using chemicals.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Chemicals play many more roles in life than signaling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ing up our bodies, those of other organisms, and the physical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04920" y="685800"/>
            <a:ext cx="853416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ce is therefore less dense than liquid water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auses it to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Floating ice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s lakes and oceans from freezing sol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34"/>
          <p:cNvGrpSpPr/>
          <p:nvPr/>
        </p:nvGrpSpPr>
        <p:grpSpPr>
          <a:xfrm>
            <a:off x="2517840" y="2612880"/>
            <a:ext cx="4481280" cy="3733920"/>
            <a:chOff x="2517840" y="2612880"/>
            <a:chExt cx="4481280" cy="3733920"/>
          </a:xfrm>
        </p:grpSpPr>
        <p:pic>
          <p:nvPicPr>
            <p:cNvPr id="761" name="Picture 6" descr="_x0017_02_14DissolveSalt_U.jpg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2517840" y="2612880"/>
              <a:ext cx="448128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Rectangle 7"/>
            <p:cNvSpPr/>
            <p:nvPr/>
          </p:nvSpPr>
          <p:spPr>
            <a:xfrm>
              <a:off x="4238640" y="360576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8"/>
            <p:cNvSpPr/>
            <p:nvPr/>
          </p:nvSpPr>
          <p:spPr>
            <a:xfrm>
              <a:off x="4291920" y="3197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9"/>
            <p:cNvSpPr/>
            <p:nvPr/>
          </p:nvSpPr>
          <p:spPr>
            <a:xfrm>
              <a:off x="4228560" y="3948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"/>
            <p:cNvSpPr/>
            <p:nvPr/>
          </p:nvSpPr>
          <p:spPr>
            <a:xfrm>
              <a:off x="4236480" y="4663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1"/>
            <p:cNvSpPr/>
            <p:nvPr/>
          </p:nvSpPr>
          <p:spPr>
            <a:xfrm>
              <a:off x="5009760" y="3447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2"/>
            <p:cNvSpPr/>
            <p:nvPr/>
          </p:nvSpPr>
          <p:spPr>
            <a:xfrm>
              <a:off x="4974840" y="420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3"/>
            <p:cNvSpPr/>
            <p:nvPr/>
          </p:nvSpPr>
          <p:spPr>
            <a:xfrm>
              <a:off x="4600080" y="4480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4"/>
            <p:cNvSpPr/>
            <p:nvPr/>
          </p:nvSpPr>
          <p:spPr>
            <a:xfrm>
              <a:off x="4990680" y="487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5"/>
            <p:cNvSpPr/>
            <p:nvPr/>
          </p:nvSpPr>
          <p:spPr>
            <a:xfrm>
              <a:off x="5292360" y="4010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6"/>
            <p:cNvSpPr/>
            <p:nvPr/>
          </p:nvSpPr>
          <p:spPr>
            <a:xfrm>
              <a:off x="4612680" y="5134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7"/>
            <p:cNvSpPr/>
            <p:nvPr/>
          </p:nvSpPr>
          <p:spPr>
            <a:xfrm>
              <a:off x="4231800" y="53172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8"/>
            <p:cNvSpPr/>
            <p:nvPr/>
          </p:nvSpPr>
          <p:spPr>
            <a:xfrm>
              <a:off x="4246920" y="50299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9"/>
            <p:cNvSpPr/>
            <p:nvPr/>
          </p:nvSpPr>
          <p:spPr>
            <a:xfrm>
              <a:off x="4610160" y="482976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20"/>
            <p:cNvSpPr/>
            <p:nvPr/>
          </p:nvSpPr>
          <p:spPr>
            <a:xfrm>
              <a:off x="4999320" y="456624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21"/>
            <p:cNvSpPr/>
            <p:nvPr/>
          </p:nvSpPr>
          <p:spPr>
            <a:xfrm>
              <a:off x="4237200" y="43027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22"/>
            <p:cNvSpPr/>
            <p:nvPr/>
          </p:nvSpPr>
          <p:spPr>
            <a:xfrm>
              <a:off x="4618080" y="41029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23"/>
            <p:cNvSpPr/>
            <p:nvPr/>
          </p:nvSpPr>
          <p:spPr>
            <a:xfrm>
              <a:off x="4566600" y="332172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24"/>
            <p:cNvSpPr/>
            <p:nvPr/>
          </p:nvSpPr>
          <p:spPr>
            <a:xfrm>
              <a:off x="4997520" y="384876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25"/>
            <p:cNvSpPr/>
            <p:nvPr/>
          </p:nvSpPr>
          <p:spPr>
            <a:xfrm>
              <a:off x="3326760" y="305964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26"/>
            <p:cNvSpPr/>
            <p:nvPr/>
          </p:nvSpPr>
          <p:spPr>
            <a:xfrm>
              <a:off x="3158640" y="4341240"/>
              <a:ext cx="372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en-US" sz="1200" spc="-1" strike="noStrike" baseline="5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7"/>
            <p:cNvSpPr/>
            <p:nvPr/>
          </p:nvSpPr>
          <p:spPr>
            <a:xfrm>
              <a:off x="3306600" y="470988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28"/>
            <p:cNvSpPr/>
            <p:nvPr/>
          </p:nvSpPr>
          <p:spPr>
            <a:xfrm>
              <a:off x="2950560" y="5576040"/>
              <a:ext cx="708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on i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29"/>
            <p:cNvSpPr/>
            <p:nvPr/>
          </p:nvSpPr>
          <p:spPr>
            <a:xfrm rot="5400000">
              <a:off x="4878720" y="5193360"/>
              <a:ext cx="112680" cy="1152360"/>
            </a:xfrm>
            <a:custGeom>
              <a:avLst/>
              <a:gdLst>
                <a:gd name="textAreaLeft" fmla="*/ 0 w 112680"/>
                <a:gd name="textAreaRight" fmla="*/ 40680 w 11268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0"/>
            <p:cNvSpPr/>
            <p:nvPr/>
          </p:nvSpPr>
          <p:spPr>
            <a:xfrm>
              <a:off x="4762440" y="5769720"/>
              <a:ext cx="62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l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ys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31"/>
            <p:cNvSpPr/>
            <p:nvPr/>
          </p:nvSpPr>
          <p:spPr>
            <a:xfrm>
              <a:off x="4560120" y="3767760"/>
              <a:ext cx="37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7" name="Title 31" descr=""/>
          <p:cNvPicPr/>
          <p:nvPr/>
        </p:nvPicPr>
        <p:blipFill>
          <a:blip r:embed="rId2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14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ar or charged solutes dissolve when water molecules surround them, forming aqueous solu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1609920" y="61196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Title 3" descr=""/>
          <p:cNvPicPr/>
          <p:nvPr/>
        </p:nvPicPr>
        <p:blipFill>
          <a:blip r:embed="rId1"/>
          <a:stretch/>
        </p:blipFill>
        <p:spPr>
          <a:xfrm>
            <a:off x="281160" y="30240"/>
            <a:ext cx="7424640" cy="143820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 compound that releases H</a:t>
            </a:r>
            <a:r>
              <a:rPr b="0" lang="en-US" sz="2300" spc="-1" strike="noStrike" baseline="30000">
                <a:solidFill>
                  <a:srgbClr val="6c6c6c"/>
                </a:solidFill>
                <a:latin typeface="Times New Roman"/>
              </a:rPr>
              <a:t>+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 ions in solution is an acid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 compound that accepts H</a:t>
            </a:r>
            <a:r>
              <a:rPr b="0" lang="en-US" sz="2300" spc="-1" strike="noStrike" baseline="30000">
                <a:solidFill>
                  <a:srgbClr val="6c6c6c"/>
                </a:solidFill>
                <a:latin typeface="Times New Roman"/>
              </a:rPr>
              <a:t>+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 ions in solution is a base.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cidity is measured on the pH scale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0 (most acidic) to 14 (most bas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 pH scale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7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70"/>
          <p:cNvGrpSpPr/>
          <p:nvPr/>
        </p:nvGrpSpPr>
        <p:grpSpPr>
          <a:xfrm>
            <a:off x="3038400" y="1199520"/>
            <a:ext cx="4424400" cy="5315760"/>
            <a:chOff x="3038400" y="1199520"/>
            <a:chExt cx="4424400" cy="5315760"/>
          </a:xfrm>
        </p:grpSpPr>
        <p:pic>
          <p:nvPicPr>
            <p:cNvPr id="797" name="Picture 6" descr="_x0012_02_15pHscale_U.jpg     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3038400" y="1352520"/>
              <a:ext cx="4424400" cy="51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Rectangle 7"/>
            <p:cNvSpPr/>
            <p:nvPr/>
          </p:nvSpPr>
          <p:spPr>
            <a:xfrm>
              <a:off x="3178440" y="6177960"/>
              <a:ext cx="81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ic so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"/>
            <p:cNvSpPr/>
            <p:nvPr/>
          </p:nvSpPr>
          <p:spPr>
            <a:xfrm>
              <a:off x="5406480" y="6021720"/>
              <a:ext cx="865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n clean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3177000" y="2601360"/>
              <a:ext cx="83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idic so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0"/>
            <p:cNvSpPr/>
            <p:nvPr/>
          </p:nvSpPr>
          <p:spPr>
            <a:xfrm>
              <a:off x="3187440" y="4393080"/>
              <a:ext cx="816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utral solution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1"/>
            <p:cNvSpPr/>
            <p:nvPr/>
          </p:nvSpPr>
          <p:spPr>
            <a:xfrm>
              <a:off x="5135400" y="1199520"/>
              <a:ext cx="81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 sc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2"/>
            <p:cNvSpPr/>
            <p:nvPr/>
          </p:nvSpPr>
          <p:spPr>
            <a:xfrm>
              <a:off x="5228640" y="13932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3"/>
            <p:cNvSpPr/>
            <p:nvPr/>
          </p:nvSpPr>
          <p:spPr>
            <a:xfrm>
              <a:off x="5233320" y="1715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243040" y="2075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5"/>
            <p:cNvSpPr/>
            <p:nvPr/>
          </p:nvSpPr>
          <p:spPr>
            <a:xfrm>
              <a:off x="5239800" y="241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6"/>
            <p:cNvSpPr/>
            <p:nvPr/>
          </p:nvSpPr>
          <p:spPr>
            <a:xfrm>
              <a:off x="5247720" y="2761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7"/>
            <p:cNvSpPr/>
            <p:nvPr/>
          </p:nvSpPr>
          <p:spPr>
            <a:xfrm>
              <a:off x="5236560" y="31122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8"/>
            <p:cNvSpPr/>
            <p:nvPr/>
          </p:nvSpPr>
          <p:spPr>
            <a:xfrm>
              <a:off x="5247720" y="3447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9"/>
            <p:cNvSpPr/>
            <p:nvPr/>
          </p:nvSpPr>
          <p:spPr>
            <a:xfrm>
              <a:off x="5246280" y="3786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20"/>
            <p:cNvSpPr/>
            <p:nvPr/>
          </p:nvSpPr>
          <p:spPr>
            <a:xfrm>
              <a:off x="5244480" y="4133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21"/>
            <p:cNvSpPr/>
            <p:nvPr/>
          </p:nvSpPr>
          <p:spPr>
            <a:xfrm>
              <a:off x="5243040" y="4485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22"/>
            <p:cNvSpPr/>
            <p:nvPr/>
          </p:nvSpPr>
          <p:spPr>
            <a:xfrm>
              <a:off x="5166000" y="48268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23"/>
            <p:cNvSpPr/>
            <p:nvPr/>
          </p:nvSpPr>
          <p:spPr>
            <a:xfrm>
              <a:off x="5180400" y="51746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24"/>
            <p:cNvSpPr/>
            <p:nvPr/>
          </p:nvSpPr>
          <p:spPr>
            <a:xfrm>
              <a:off x="5186880" y="55029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25"/>
            <p:cNvSpPr/>
            <p:nvPr/>
          </p:nvSpPr>
          <p:spPr>
            <a:xfrm>
              <a:off x="5407920" y="2091240"/>
              <a:ext cx="1474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emon juice, gastric jui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26"/>
            <p:cNvSpPr/>
            <p:nvPr/>
          </p:nvSpPr>
          <p:spPr>
            <a:xfrm>
              <a:off x="5408280" y="2434320"/>
              <a:ext cx="1524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rapefruit juice, soft drin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27"/>
            <p:cNvSpPr/>
            <p:nvPr/>
          </p:nvSpPr>
          <p:spPr>
            <a:xfrm>
              <a:off x="5412960" y="2775600"/>
              <a:ext cx="839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omato jui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8"/>
            <p:cNvSpPr/>
            <p:nvPr/>
          </p:nvSpPr>
          <p:spPr>
            <a:xfrm>
              <a:off x="5413320" y="3470760"/>
              <a:ext cx="837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uman ur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29"/>
            <p:cNvSpPr/>
            <p:nvPr/>
          </p:nvSpPr>
          <p:spPr>
            <a:xfrm>
              <a:off x="5413320" y="37958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ure water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uman blo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30"/>
            <p:cNvSpPr/>
            <p:nvPr/>
          </p:nvSpPr>
          <p:spPr>
            <a:xfrm>
              <a:off x="5412600" y="4351680"/>
              <a:ext cx="66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awa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31"/>
            <p:cNvSpPr/>
            <p:nvPr/>
          </p:nvSpPr>
          <p:spPr>
            <a:xfrm>
              <a:off x="5412600" y="5015520"/>
              <a:ext cx="104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lk of magnes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32"/>
            <p:cNvSpPr/>
            <p:nvPr/>
          </p:nvSpPr>
          <p:spPr>
            <a:xfrm>
              <a:off x="5407920" y="5369400"/>
              <a:ext cx="1233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ousehold ammo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33"/>
            <p:cNvSpPr/>
            <p:nvPr/>
          </p:nvSpPr>
          <p:spPr>
            <a:xfrm>
              <a:off x="5408280" y="5656680"/>
              <a:ext cx="1102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ousehold blea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34"/>
            <p:cNvSpPr/>
            <p:nvPr/>
          </p:nvSpPr>
          <p:spPr>
            <a:xfrm rot="16200000">
              <a:off x="3863880" y="2399760"/>
              <a:ext cx="1911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creasingly ACIDIC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Higher concentration of H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35"/>
            <p:cNvSpPr/>
            <p:nvPr/>
          </p:nvSpPr>
          <p:spPr>
            <a:xfrm>
              <a:off x="4475880" y="37324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UTR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=[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36"/>
            <p:cNvSpPr/>
            <p:nvPr/>
          </p:nvSpPr>
          <p:spPr>
            <a:xfrm>
              <a:off x="3335400" y="18849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37"/>
            <p:cNvSpPr/>
            <p:nvPr/>
          </p:nvSpPr>
          <p:spPr>
            <a:xfrm>
              <a:off x="3595680" y="18324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38"/>
            <p:cNvSpPr/>
            <p:nvPr/>
          </p:nvSpPr>
          <p:spPr>
            <a:xfrm>
              <a:off x="3192480" y="202284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39"/>
            <p:cNvSpPr/>
            <p:nvPr/>
          </p:nvSpPr>
          <p:spPr>
            <a:xfrm>
              <a:off x="3394440" y="204516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40"/>
            <p:cNvSpPr/>
            <p:nvPr/>
          </p:nvSpPr>
          <p:spPr>
            <a:xfrm>
              <a:off x="3670200" y="20548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41"/>
            <p:cNvSpPr/>
            <p:nvPr/>
          </p:nvSpPr>
          <p:spPr>
            <a:xfrm>
              <a:off x="3315240" y="2336040"/>
              <a:ext cx="31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42"/>
            <p:cNvSpPr/>
            <p:nvPr/>
          </p:nvSpPr>
          <p:spPr>
            <a:xfrm>
              <a:off x="3497760" y="2353680"/>
              <a:ext cx="31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43"/>
            <p:cNvSpPr/>
            <p:nvPr/>
          </p:nvSpPr>
          <p:spPr>
            <a:xfrm>
              <a:off x="3178440" y="218484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44"/>
            <p:cNvSpPr/>
            <p:nvPr/>
          </p:nvSpPr>
          <p:spPr>
            <a:xfrm>
              <a:off x="3489480" y="219924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45"/>
            <p:cNvSpPr/>
            <p:nvPr/>
          </p:nvSpPr>
          <p:spPr>
            <a:xfrm>
              <a:off x="3711600" y="22197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46"/>
            <p:cNvSpPr/>
            <p:nvPr/>
          </p:nvSpPr>
          <p:spPr>
            <a:xfrm>
              <a:off x="3468960" y="363744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47"/>
            <p:cNvSpPr/>
            <p:nvPr/>
          </p:nvSpPr>
          <p:spPr>
            <a:xfrm>
              <a:off x="3243600" y="370728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48"/>
            <p:cNvSpPr/>
            <p:nvPr/>
          </p:nvSpPr>
          <p:spPr>
            <a:xfrm>
              <a:off x="3193920" y="38613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49"/>
            <p:cNvSpPr/>
            <p:nvPr/>
          </p:nvSpPr>
          <p:spPr>
            <a:xfrm>
              <a:off x="3451320" y="387252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50"/>
            <p:cNvSpPr/>
            <p:nvPr/>
          </p:nvSpPr>
          <p:spPr>
            <a:xfrm>
              <a:off x="3637080" y="378684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51"/>
            <p:cNvSpPr/>
            <p:nvPr/>
          </p:nvSpPr>
          <p:spPr>
            <a:xfrm>
              <a:off x="3270600" y="398664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52"/>
            <p:cNvSpPr/>
            <p:nvPr/>
          </p:nvSpPr>
          <p:spPr>
            <a:xfrm>
              <a:off x="3576960" y="395352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53"/>
            <p:cNvSpPr/>
            <p:nvPr/>
          </p:nvSpPr>
          <p:spPr>
            <a:xfrm>
              <a:off x="3225960" y="41122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54"/>
            <p:cNvSpPr/>
            <p:nvPr/>
          </p:nvSpPr>
          <p:spPr>
            <a:xfrm>
              <a:off x="3673440" y="41104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55"/>
            <p:cNvSpPr/>
            <p:nvPr/>
          </p:nvSpPr>
          <p:spPr>
            <a:xfrm>
              <a:off x="3462480" y="41374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56"/>
            <p:cNvSpPr/>
            <p:nvPr/>
          </p:nvSpPr>
          <p:spPr>
            <a:xfrm>
              <a:off x="3211920" y="538992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57"/>
            <p:cNvSpPr/>
            <p:nvPr/>
          </p:nvSpPr>
          <p:spPr>
            <a:xfrm>
              <a:off x="3414960" y="548676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58"/>
            <p:cNvSpPr/>
            <p:nvPr/>
          </p:nvSpPr>
          <p:spPr>
            <a:xfrm>
              <a:off x="3169080" y="578844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59"/>
            <p:cNvSpPr/>
            <p:nvPr/>
          </p:nvSpPr>
          <p:spPr>
            <a:xfrm>
              <a:off x="3440520" y="578232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0"/>
            <p:cNvSpPr/>
            <p:nvPr/>
          </p:nvSpPr>
          <p:spPr>
            <a:xfrm>
              <a:off x="3648240" y="562500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61"/>
            <p:cNvSpPr/>
            <p:nvPr/>
          </p:nvSpPr>
          <p:spPr>
            <a:xfrm>
              <a:off x="3138840" y="562176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62"/>
            <p:cNvSpPr/>
            <p:nvPr/>
          </p:nvSpPr>
          <p:spPr>
            <a:xfrm>
              <a:off x="3424320" y="56376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63"/>
            <p:cNvSpPr/>
            <p:nvPr/>
          </p:nvSpPr>
          <p:spPr>
            <a:xfrm rot="16200000">
              <a:off x="3863880" y="4911480"/>
              <a:ext cx="1920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creasingly BASIC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Lower concentration of H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64"/>
            <p:cNvSpPr/>
            <p:nvPr/>
          </p:nvSpPr>
          <p:spPr>
            <a:xfrm>
              <a:off x="3615120" y="5855040"/>
              <a:ext cx="38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65"/>
            <p:cNvSpPr/>
            <p:nvPr/>
          </p:nvSpPr>
          <p:spPr>
            <a:xfrm>
              <a:off x="3384720" y="59202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66"/>
            <p:cNvSpPr/>
            <p:nvPr/>
          </p:nvSpPr>
          <p:spPr>
            <a:xfrm>
              <a:off x="5180400" y="61538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7"/>
            <p:cNvSpPr/>
            <p:nvPr/>
          </p:nvSpPr>
          <p:spPr>
            <a:xfrm>
              <a:off x="5185080" y="58222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Text Box 68"/>
          <p:cNvSpPr/>
          <p:nvPr/>
        </p:nvSpPr>
        <p:spPr>
          <a:xfrm>
            <a:off x="1677960" y="61196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304920" y="685800"/>
            <a:ext cx="853416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 pH of most cells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kept close to 7 (neutral) by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Buffers are substances that resist pH change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8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Rectangle 2" descr=""/>
          <p:cNvPicPr/>
          <p:nvPr/>
        </p:nvPicPr>
        <p:blipFill>
          <a:blip r:embed="rId1"/>
          <a:stretch/>
        </p:blipFill>
        <p:spPr>
          <a:xfrm>
            <a:off x="244440" y="-60480"/>
            <a:ext cx="7613640" cy="169416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 ecosystems are threatened by acid precipi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cid precipitation is formed when air pollutants from burning fossil fuels combine with water vapor in the air to form sulfuric and nitric acids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8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se acids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kill trees and damage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7"/>
          <p:cNvGrpSpPr/>
          <p:nvPr/>
        </p:nvGrpSpPr>
        <p:grpSpPr>
          <a:xfrm>
            <a:off x="324000" y="2355840"/>
            <a:ext cx="8489880" cy="3012840"/>
            <a:chOff x="324000" y="2355840"/>
            <a:chExt cx="8489880" cy="3012840"/>
          </a:xfrm>
        </p:grpSpPr>
        <p:pic>
          <p:nvPicPr>
            <p:cNvPr id="868" name="Picture 6" descr="_x0017_02_16bAcidDamage_UP.jpg  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4503960" y="2355840"/>
              <a:ext cx="4309920" cy="30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5" descr="_x001a_02_16aAcidPrecipFor_UP.jpg                                     0050AB05_x0003_203                            BE5F4864:"/>
            <p:cNvPicPr/>
            <p:nvPr/>
          </p:nvPicPr>
          <p:blipFill>
            <a:blip r:embed="rId2"/>
            <a:stretch/>
          </p:blipFill>
          <p:spPr>
            <a:xfrm>
              <a:off x="324000" y="2408040"/>
              <a:ext cx="4305240" cy="293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Text Box 8"/>
          <p:cNvSpPr/>
          <p:nvPr/>
        </p:nvSpPr>
        <p:spPr>
          <a:xfrm>
            <a:off x="319320" y="52182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6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9"/>
          <p:cNvSpPr/>
          <p:nvPr/>
        </p:nvSpPr>
        <p:spPr>
          <a:xfrm>
            <a:off x="4548240" y="52182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6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Rectangle 2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7424640" cy="10904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14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In a chemical re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ctants interact, atoms rearrange, and products res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5"/>
          <p:cNvGrpSpPr/>
          <p:nvPr/>
        </p:nvGrpSpPr>
        <p:grpSpPr>
          <a:xfrm>
            <a:off x="1811160" y="3429000"/>
            <a:ext cx="7018560" cy="2736720"/>
            <a:chOff x="1811160" y="3429000"/>
            <a:chExt cx="7018560" cy="2736720"/>
          </a:xfrm>
        </p:grpSpPr>
        <p:pic>
          <p:nvPicPr>
            <p:cNvPr id="876" name="Picture 6" descr="_x0013_02_17aChemRxn_U.jpg                                            0050AB05_x0003_203                            BE5F4864:"/>
            <p:cNvPicPr/>
            <p:nvPr/>
          </p:nvPicPr>
          <p:blipFill>
            <a:blip r:embed="rId2"/>
            <a:stretch/>
          </p:blipFill>
          <p:spPr>
            <a:xfrm>
              <a:off x="1811160" y="3429000"/>
              <a:ext cx="70185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Rectangle 7"/>
            <p:cNvSpPr/>
            <p:nvPr/>
          </p:nvSpPr>
          <p:spPr>
            <a:xfrm>
              <a:off x="2205000" y="5715360"/>
              <a:ext cx="56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8"/>
            <p:cNvSpPr/>
            <p:nvPr/>
          </p:nvSpPr>
          <p:spPr>
            <a:xfrm>
              <a:off x="4431240" y="56829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9"/>
            <p:cNvSpPr/>
            <p:nvPr/>
          </p:nvSpPr>
          <p:spPr>
            <a:xfrm>
              <a:off x="7422480" y="5715360"/>
              <a:ext cx="718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Text Box 10"/>
          <p:cNvSpPr/>
          <p:nvPr/>
        </p:nvSpPr>
        <p:spPr>
          <a:xfrm>
            <a:off x="281160" y="58150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7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304920" y="685800"/>
            <a:ext cx="8534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Living cells carry out thousands of chemical reactions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2" marL="1814400" indent="-533160">
              <a:spcBef>
                <a:spcPts val="814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rearrange matter in significant wa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76"/>
          <p:cNvGrpSpPr/>
          <p:nvPr/>
        </p:nvGrpSpPr>
        <p:grpSpPr>
          <a:xfrm>
            <a:off x="177840" y="3219480"/>
            <a:ext cx="8750160" cy="2581200"/>
            <a:chOff x="177840" y="3219480"/>
            <a:chExt cx="8750160" cy="2581200"/>
          </a:xfrm>
        </p:grpSpPr>
        <p:pic>
          <p:nvPicPr>
            <p:cNvPr id="884" name="Picture 7" descr="_x0019_02_17bCaroteneToA_CNL.jpg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177840" y="3219480"/>
              <a:ext cx="8750160" cy="25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Text Box 8"/>
            <p:cNvSpPr/>
            <p:nvPr/>
          </p:nvSpPr>
          <p:spPr>
            <a:xfrm>
              <a:off x="805680" y="4104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9"/>
            <p:cNvSpPr/>
            <p:nvPr/>
          </p:nvSpPr>
          <p:spPr>
            <a:xfrm>
              <a:off x="1193040" y="40946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10"/>
            <p:cNvSpPr/>
            <p:nvPr/>
          </p:nvSpPr>
          <p:spPr>
            <a:xfrm>
              <a:off x="1724760" y="40993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11"/>
            <p:cNvSpPr/>
            <p:nvPr/>
          </p:nvSpPr>
          <p:spPr>
            <a:xfrm>
              <a:off x="354600" y="43120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12"/>
            <p:cNvSpPr/>
            <p:nvPr/>
          </p:nvSpPr>
          <p:spPr>
            <a:xfrm>
              <a:off x="696960" y="43585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13"/>
            <p:cNvSpPr/>
            <p:nvPr/>
          </p:nvSpPr>
          <p:spPr>
            <a:xfrm>
              <a:off x="979560" y="435528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14"/>
            <p:cNvSpPr/>
            <p:nvPr/>
          </p:nvSpPr>
          <p:spPr>
            <a:xfrm>
              <a:off x="1249200" y="4355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15"/>
            <p:cNvSpPr/>
            <p:nvPr/>
          </p:nvSpPr>
          <p:spPr>
            <a:xfrm>
              <a:off x="1500120" y="435060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16"/>
            <p:cNvSpPr/>
            <p:nvPr/>
          </p:nvSpPr>
          <p:spPr>
            <a:xfrm>
              <a:off x="1773360" y="43506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17"/>
            <p:cNvSpPr/>
            <p:nvPr/>
          </p:nvSpPr>
          <p:spPr>
            <a:xfrm>
              <a:off x="2031840" y="43459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18"/>
            <p:cNvSpPr/>
            <p:nvPr/>
          </p:nvSpPr>
          <p:spPr>
            <a:xfrm>
              <a:off x="2301840" y="43459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19"/>
            <p:cNvSpPr/>
            <p:nvPr/>
          </p:nvSpPr>
          <p:spPr>
            <a:xfrm>
              <a:off x="2557440" y="43459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20"/>
            <p:cNvSpPr/>
            <p:nvPr/>
          </p:nvSpPr>
          <p:spPr>
            <a:xfrm>
              <a:off x="2830320" y="43459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21"/>
            <p:cNvSpPr/>
            <p:nvPr/>
          </p:nvSpPr>
          <p:spPr>
            <a:xfrm>
              <a:off x="3093840" y="43459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22"/>
            <p:cNvSpPr/>
            <p:nvPr/>
          </p:nvSpPr>
          <p:spPr>
            <a:xfrm>
              <a:off x="3368520" y="4355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517920" y="458244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24"/>
            <p:cNvSpPr/>
            <p:nvPr/>
          </p:nvSpPr>
          <p:spPr>
            <a:xfrm>
              <a:off x="3748680" y="45788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Text Box 25"/>
            <p:cNvSpPr/>
            <p:nvPr/>
          </p:nvSpPr>
          <p:spPr>
            <a:xfrm>
              <a:off x="3898080" y="43470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 Box 26"/>
            <p:cNvSpPr/>
            <p:nvPr/>
          </p:nvSpPr>
          <p:spPr>
            <a:xfrm>
              <a:off x="3756600" y="4128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27"/>
            <p:cNvSpPr/>
            <p:nvPr/>
          </p:nvSpPr>
          <p:spPr>
            <a:xfrm>
              <a:off x="3659760" y="39186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28"/>
            <p:cNvSpPr/>
            <p:nvPr/>
          </p:nvSpPr>
          <p:spPr>
            <a:xfrm>
              <a:off x="3371040" y="391680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29"/>
            <p:cNvSpPr/>
            <p:nvPr/>
          </p:nvSpPr>
          <p:spPr>
            <a:xfrm>
              <a:off x="3519360" y="41410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0"/>
            <p:cNvSpPr/>
            <p:nvPr/>
          </p:nvSpPr>
          <p:spPr>
            <a:xfrm>
              <a:off x="334080" y="45741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31"/>
            <p:cNvSpPr/>
            <p:nvPr/>
          </p:nvSpPr>
          <p:spPr>
            <a:xfrm>
              <a:off x="338760" y="4812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32"/>
            <p:cNvSpPr/>
            <p:nvPr/>
          </p:nvSpPr>
          <p:spPr>
            <a:xfrm>
              <a:off x="1092240" y="459036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33"/>
            <p:cNvSpPr/>
            <p:nvPr/>
          </p:nvSpPr>
          <p:spPr>
            <a:xfrm>
              <a:off x="1871640" y="46015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34"/>
            <p:cNvSpPr/>
            <p:nvPr/>
          </p:nvSpPr>
          <p:spPr>
            <a:xfrm>
              <a:off x="1619280" y="46015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35"/>
            <p:cNvSpPr/>
            <p:nvPr/>
          </p:nvSpPr>
          <p:spPr>
            <a:xfrm>
              <a:off x="1355760" y="46015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36"/>
            <p:cNvSpPr/>
            <p:nvPr/>
          </p:nvSpPr>
          <p:spPr>
            <a:xfrm>
              <a:off x="2106720" y="461088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37"/>
            <p:cNvSpPr/>
            <p:nvPr/>
          </p:nvSpPr>
          <p:spPr>
            <a:xfrm>
              <a:off x="2399400" y="482508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38"/>
            <p:cNvSpPr/>
            <p:nvPr/>
          </p:nvSpPr>
          <p:spPr>
            <a:xfrm>
              <a:off x="2940840" y="4812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39"/>
            <p:cNvSpPr/>
            <p:nvPr/>
          </p:nvSpPr>
          <p:spPr>
            <a:xfrm>
              <a:off x="3359880" y="48153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40"/>
            <p:cNvSpPr/>
            <p:nvPr/>
          </p:nvSpPr>
          <p:spPr>
            <a:xfrm>
              <a:off x="2668680" y="459360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41"/>
            <p:cNvSpPr/>
            <p:nvPr/>
          </p:nvSpPr>
          <p:spPr>
            <a:xfrm>
              <a:off x="3195720" y="459360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42"/>
            <p:cNvSpPr/>
            <p:nvPr/>
          </p:nvSpPr>
          <p:spPr>
            <a:xfrm>
              <a:off x="2443320" y="458064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43"/>
            <p:cNvSpPr/>
            <p:nvPr/>
          </p:nvSpPr>
          <p:spPr>
            <a:xfrm>
              <a:off x="2976480" y="45777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44"/>
            <p:cNvSpPr/>
            <p:nvPr/>
          </p:nvSpPr>
          <p:spPr>
            <a:xfrm>
              <a:off x="853920" y="45792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45"/>
            <p:cNvSpPr/>
            <p:nvPr/>
          </p:nvSpPr>
          <p:spPr>
            <a:xfrm>
              <a:off x="704880" y="47887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46"/>
            <p:cNvSpPr/>
            <p:nvPr/>
          </p:nvSpPr>
          <p:spPr>
            <a:xfrm>
              <a:off x="556200" y="50295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47"/>
            <p:cNvSpPr/>
            <p:nvPr/>
          </p:nvSpPr>
          <p:spPr>
            <a:xfrm>
              <a:off x="822960" y="50090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48"/>
            <p:cNvSpPr/>
            <p:nvPr/>
          </p:nvSpPr>
          <p:spPr>
            <a:xfrm>
              <a:off x="4296600" y="4572360"/>
              <a:ext cx="29340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49"/>
            <p:cNvSpPr/>
            <p:nvPr/>
          </p:nvSpPr>
          <p:spPr>
            <a:xfrm>
              <a:off x="4638960" y="458244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50"/>
            <p:cNvSpPr/>
            <p:nvPr/>
          </p:nvSpPr>
          <p:spPr>
            <a:xfrm>
              <a:off x="6038640" y="432828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51"/>
            <p:cNvSpPr/>
            <p:nvPr/>
          </p:nvSpPr>
          <p:spPr>
            <a:xfrm>
              <a:off x="6342120" y="43441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52"/>
            <p:cNvSpPr/>
            <p:nvPr/>
          </p:nvSpPr>
          <p:spPr>
            <a:xfrm>
              <a:off x="6572160" y="433152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53"/>
            <p:cNvSpPr/>
            <p:nvPr/>
          </p:nvSpPr>
          <p:spPr>
            <a:xfrm>
              <a:off x="6870600" y="43473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54"/>
            <p:cNvSpPr/>
            <p:nvPr/>
          </p:nvSpPr>
          <p:spPr>
            <a:xfrm>
              <a:off x="7142040" y="4355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55"/>
            <p:cNvSpPr/>
            <p:nvPr/>
          </p:nvSpPr>
          <p:spPr>
            <a:xfrm>
              <a:off x="6164280" y="459684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56"/>
            <p:cNvSpPr/>
            <p:nvPr/>
          </p:nvSpPr>
          <p:spPr>
            <a:xfrm>
              <a:off x="6419880" y="459684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57"/>
            <p:cNvSpPr/>
            <p:nvPr/>
          </p:nvSpPr>
          <p:spPr>
            <a:xfrm>
              <a:off x="6692760" y="459684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58"/>
            <p:cNvSpPr/>
            <p:nvPr/>
          </p:nvSpPr>
          <p:spPr>
            <a:xfrm>
              <a:off x="6958080" y="4596840"/>
              <a:ext cx="32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59"/>
            <p:cNvSpPr/>
            <p:nvPr/>
          </p:nvSpPr>
          <p:spPr>
            <a:xfrm>
              <a:off x="7293240" y="4533120"/>
              <a:ext cx="33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60"/>
            <p:cNvSpPr/>
            <p:nvPr/>
          </p:nvSpPr>
          <p:spPr>
            <a:xfrm>
              <a:off x="7340760" y="42886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61"/>
            <p:cNvSpPr/>
            <p:nvPr/>
          </p:nvSpPr>
          <p:spPr>
            <a:xfrm>
              <a:off x="7153200" y="41140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62"/>
            <p:cNvSpPr/>
            <p:nvPr/>
          </p:nvSpPr>
          <p:spPr>
            <a:xfrm>
              <a:off x="5634720" y="50169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63"/>
            <p:cNvSpPr/>
            <p:nvPr/>
          </p:nvSpPr>
          <p:spPr>
            <a:xfrm>
              <a:off x="5914080" y="50029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64"/>
            <p:cNvSpPr/>
            <p:nvPr/>
          </p:nvSpPr>
          <p:spPr>
            <a:xfrm>
              <a:off x="5950080" y="45889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65"/>
            <p:cNvSpPr/>
            <p:nvPr/>
          </p:nvSpPr>
          <p:spPr>
            <a:xfrm>
              <a:off x="5802480" y="479844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66"/>
            <p:cNvSpPr/>
            <p:nvPr/>
          </p:nvSpPr>
          <p:spPr>
            <a:xfrm>
              <a:off x="5429880" y="43311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67"/>
            <p:cNvSpPr/>
            <p:nvPr/>
          </p:nvSpPr>
          <p:spPr>
            <a:xfrm>
              <a:off x="5791320" y="43585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68"/>
            <p:cNvSpPr/>
            <p:nvPr/>
          </p:nvSpPr>
          <p:spPr>
            <a:xfrm>
              <a:off x="5445720" y="45741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69"/>
            <p:cNvSpPr/>
            <p:nvPr/>
          </p:nvSpPr>
          <p:spPr>
            <a:xfrm>
              <a:off x="5433120" y="481212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70"/>
            <p:cNvSpPr/>
            <p:nvPr/>
          </p:nvSpPr>
          <p:spPr>
            <a:xfrm>
              <a:off x="5961600" y="41295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71"/>
            <p:cNvSpPr/>
            <p:nvPr/>
          </p:nvSpPr>
          <p:spPr>
            <a:xfrm>
              <a:off x="6292080" y="408996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72"/>
            <p:cNvSpPr/>
            <p:nvPr/>
          </p:nvSpPr>
          <p:spPr>
            <a:xfrm>
              <a:off x="6811200" y="4094640"/>
              <a:ext cx="3603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73"/>
            <p:cNvSpPr/>
            <p:nvPr/>
          </p:nvSpPr>
          <p:spPr>
            <a:xfrm>
              <a:off x="6572520" y="5040000"/>
              <a:ext cx="83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itamin A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2 molecule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74"/>
            <p:cNvSpPr/>
            <p:nvPr/>
          </p:nvSpPr>
          <p:spPr>
            <a:xfrm>
              <a:off x="1361880" y="5015880"/>
              <a:ext cx="85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ta-carote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75"/>
            <p:cNvSpPr/>
            <p:nvPr/>
          </p:nvSpPr>
          <p:spPr>
            <a:xfrm>
              <a:off x="5321520" y="4585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Text Box 77"/>
          <p:cNvSpPr/>
          <p:nvPr/>
        </p:nvSpPr>
        <p:spPr>
          <a:xfrm>
            <a:off x="293400" y="603252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17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165240" y="-55440"/>
            <a:ext cx="7626240" cy="15238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1 Living organisms are composed of about 25 chemical el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Living organisms are composed of </a:t>
            </a:r>
            <a:r>
              <a:rPr b="1" i="1" lang="en-US" sz="2300" spc="-1" strike="noStrike" u="sng">
                <a:solidFill>
                  <a:srgbClr val="6c6c6c"/>
                </a:solidFill>
                <a:uFillTx/>
                <a:latin typeface="Times New Roman"/>
              </a:rPr>
              <a:t>matter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 (anything that occupies space and has mass)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n </a:t>
            </a:r>
            <a:r>
              <a:rPr b="1" i="1" lang="en-US" sz="2300" spc="-1" strike="noStrike" u="sng">
                <a:solidFill>
                  <a:srgbClr val="6c6c6c"/>
                </a:solidFill>
                <a:uFillTx/>
                <a:latin typeface="Times New Roman"/>
              </a:rPr>
              <a:t>element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 is a substance that cannot be broken down into other substances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re are 92 recognized elements (periodic table)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About 25 different chemical elements are essential to life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5" descr="_x0019_02_01ChemCompHumBod_T.jpg 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3884760" y="1600200"/>
            <a:ext cx="4733640" cy="47941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304920" y="685440"/>
            <a:ext cx="85341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Carbon, hydrogen, oxygen, and nitrogen make up the 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bulk of living matter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5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951120" y="611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5"/>
          <p:cNvSpPr/>
          <p:nvPr/>
        </p:nvSpPr>
        <p:spPr>
          <a:xfrm>
            <a:off x="247680" y="2200320"/>
            <a:ext cx="3003480" cy="119124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ce elem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essential, but only in small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ce ele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ommon additives to food and w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Examples: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36504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ron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36504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Folic Acid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36504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odine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36504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Fluoride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365040">
              <a:spcBef>
                <a:spcPts val="814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Dietary deficiencies in trace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 lvl="1" marL="36504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imes New Roman"/>
              </a:rPr>
              <a:t>elements can cause various physiological conditions</a:t>
            </a:r>
            <a:endParaRPr b="0" lang="en-US" sz="2600" spc="-1" strike="noStrike">
              <a:solidFill>
                <a:srgbClr val="6c6c6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_x0013_02_02aGoiter_UP.jpg                                            0050AB05_x0003_203                            BE5F4864:"/>
          <p:cNvPicPr/>
          <p:nvPr/>
        </p:nvPicPr>
        <p:blipFill>
          <a:blip r:embed="rId2"/>
          <a:stretch/>
        </p:blipFill>
        <p:spPr>
          <a:xfrm>
            <a:off x="5607000" y="2030400"/>
            <a:ext cx="2460600" cy="335448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262800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334800"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race elements are essential to human health and may 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520560" indent="-33480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be added to food or water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5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_x0016_02_02bFoodLabel_UP.jpg                                         0050AB05_x0003_203                            BE5F4864:"/>
          <p:cNvPicPr/>
          <p:nvPr/>
        </p:nvPicPr>
        <p:blipFill>
          <a:blip r:embed="rId1"/>
          <a:stretch/>
        </p:blipFill>
        <p:spPr>
          <a:xfrm>
            <a:off x="2730600" y="1992240"/>
            <a:ext cx="4070160" cy="440856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897480" y="6119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04920" y="685800"/>
            <a:ext cx="85341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3 Elements can combine to form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334800"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Chemical elements combine in fixed ratios to form compounds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449280" indent="-334800"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 smallest unit of an element is an </a:t>
            </a:r>
            <a:r>
              <a:rPr b="1" i="1" lang="en-US" sz="2300" spc="-1" strike="noStrike" u="sng">
                <a:solidFill>
                  <a:srgbClr val="6c6c6c"/>
                </a:solidFill>
                <a:uFillTx/>
                <a:latin typeface="Times New Roman"/>
              </a:rPr>
              <a:t>atom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 marL="449280" indent="-33480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</p:txBody>
      </p:sp>
      <p:sp>
        <p:nvSpPr>
          <p:cNvPr id="55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27"/>
          <p:cNvGrpSpPr/>
          <p:nvPr/>
        </p:nvGrpSpPr>
        <p:grpSpPr>
          <a:xfrm>
            <a:off x="531720" y="2666880"/>
            <a:ext cx="8078760" cy="2628360"/>
            <a:chOff x="531720" y="2666880"/>
            <a:chExt cx="8078760" cy="2628360"/>
          </a:xfrm>
        </p:grpSpPr>
        <p:pic>
          <p:nvPicPr>
            <p:cNvPr id="558" name="Picture 6" descr="_x0019_02_03EmergProperty_UP.jpg                                      0050AB05_x0003_203                            BE5F4864:"/>
            <p:cNvPicPr/>
            <p:nvPr/>
          </p:nvPicPr>
          <p:blipFill>
            <a:blip r:embed="rId1"/>
            <a:stretch/>
          </p:blipFill>
          <p:spPr>
            <a:xfrm>
              <a:off x="531720" y="2666880"/>
              <a:ext cx="80787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7"/>
            <p:cNvSpPr/>
            <p:nvPr/>
          </p:nvSpPr>
          <p:spPr>
            <a:xfrm>
              <a:off x="752400" y="4957920"/>
              <a:ext cx="17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di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3406680" y="4940280"/>
              <a:ext cx="180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lo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6072120" y="4938840"/>
              <a:ext cx="231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dium Chlor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 Box 10"/>
          <p:cNvSpPr/>
          <p:nvPr/>
        </p:nvSpPr>
        <p:spPr>
          <a:xfrm>
            <a:off x="2638800" y="611964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Title 3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The smallest particle of matter that still retains the properties of an element is an atom.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1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</a:rPr>
              <a:t>If we examine an atom closer you will find that it contains:</a:t>
            </a:r>
            <a:endParaRPr b="0" lang="en-US" sz="2300" spc="-1" strike="noStrike">
              <a:solidFill>
                <a:srgbClr val="6c6c6c"/>
              </a:solidFill>
              <a:latin typeface="Times New Roman"/>
            </a:endParaRPr>
          </a:p>
          <a:p>
            <a:pPr lvl="2" marL="272880">
              <a:spcBef>
                <a:spcPts val="400"/>
              </a:spcBef>
              <a:buClr>
                <a:srgbClr val="de6c3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t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7560">
              <a:spcBef>
                <a:spcPts val="499"/>
              </a:spcBef>
              <a:buClr>
                <a:srgbClr val="f9b6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imes New Roman"/>
              </a:rPr>
              <a:t>a subatomic particle with a single positive electric charge (+)</a:t>
            </a:r>
            <a:r>
              <a:rPr b="0" lang="en-US" sz="2000" spc="-1" strike="noStrike">
                <a:solidFill>
                  <a:srgbClr val="6c6c6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6c6c6c"/>
              </a:solidFill>
              <a:latin typeface="Times New Roman"/>
            </a:endParaRPr>
          </a:p>
          <a:p>
            <a:pPr lvl="2" marL="272880">
              <a:spcBef>
                <a:spcPts val="400"/>
              </a:spcBef>
              <a:buClr>
                <a:srgbClr val="de6c3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7560">
              <a:spcBef>
                <a:spcPts val="499"/>
              </a:spcBef>
              <a:buClr>
                <a:srgbClr val="f9b6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imes New Roman"/>
              </a:rPr>
              <a:t>a subatomic particle with a single negative electric charge (-)</a:t>
            </a:r>
            <a:r>
              <a:rPr b="0" lang="en-US" sz="2000" spc="-1" strike="noStrike">
                <a:solidFill>
                  <a:srgbClr val="6c6c6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6c6c6c"/>
              </a:solidFill>
              <a:latin typeface="Times New Roman"/>
            </a:endParaRPr>
          </a:p>
          <a:p>
            <a:pPr lvl="2" marL="272880">
              <a:spcBef>
                <a:spcPts val="400"/>
              </a:spcBef>
              <a:buClr>
                <a:srgbClr val="de6c3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u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7560">
              <a:spcBef>
                <a:spcPts val="499"/>
              </a:spcBef>
              <a:buClr>
                <a:srgbClr val="f9b6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imes New Roman"/>
              </a:rPr>
              <a:t>a subatomic particle with a neutral charge.</a:t>
            </a:r>
            <a:endParaRPr b="0" lang="en-US" sz="2000" spc="-1" strike="noStrike">
              <a:solidFill>
                <a:srgbClr val="6c6c6c"/>
              </a:solidFill>
              <a:latin typeface="Times New Roman"/>
            </a:endParaRPr>
          </a:p>
          <a:p>
            <a:pPr lvl="3" marL="54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83d68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3-30T09:38:22Z</cp:lastPrinted>
  <dcterms:modified xsi:type="dcterms:W3CDTF">2009-08-06T22:43:51Z</dcterms:modified>
  <cp:revision>226</cp:revision>
  <dc:subject/>
  <dc:title>Slide 1</dc:title>
</cp:coreProperties>
</file>